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287-F7C9-407A-985D-4D0606F3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383B-6586-43E7-B30F-39241A26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91FA6-C93D-41DF-A643-967E225C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0DC86-982B-40AF-9F6B-86C2A327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9F38B-A9BE-4A3C-9091-0285AB8F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18C96-D656-4CB7-8F7B-27E24EF6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328F1-64C7-438A-9AB3-EEB9D5FF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06B4D-0547-485D-B36A-E9A850D7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A614A-EEF6-49D1-B294-2AED7D36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67DCE-14A5-46B6-B021-FA85DE73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E5565-981B-4342-BCD6-50A0C25B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59BCE-B412-4316-944C-F00CA0EE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11F-FA19-43B7-895C-6E0AA37E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46869-6A9E-438C-BE21-11D4D810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C0312-808C-437E-8EED-38D9C2FA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3C7DA-FAA6-4F92-8B81-E8F69F39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CDE92-E16B-49A6-B896-264C0481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C8440-31CF-4733-BBF6-3AFF782F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6B72F-331F-4F71-A020-BFC2F3E7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19396-4D03-404F-9A9B-A875A856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09EFB-D6AB-4FBA-A013-C8BEC585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5D547-2F78-4D54-B70F-2A2F4EC8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D01EB-56A3-480E-8695-9A7B007A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D3B8-CE65-48FB-8DE1-4EC38881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E67FF-CFC3-494D-B163-7CED22AC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0CCF-FAEC-4CED-847E-CF23F8D6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BB08-3A62-439E-8135-141773CE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0813-48B7-47D2-9FB9-FF62D1BA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E1D4-A347-4DA0-8F75-67AFDF30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6F9B-A170-4CAF-918C-802EE368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AE3D-E743-4641-A30C-CC3DDBD0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B316-B575-439A-9267-2399673F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8C1-F5DE-4BB9-90B4-3BFCD564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9CCB-D4A2-4736-A92D-D5C40AF7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DA79-6276-4ED1-AECA-19013F0A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05E7-8DAE-48C4-B940-12C4B0B2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C052-D96E-4558-99FF-D7E354E5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586F-2480-4710-AF33-656A7618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FEB96-FDA6-47B8-BB83-DAFD7418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D8015-1053-416A-9017-FA7C62F2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973D5-C6B8-4412-86CE-8A85F08F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CD854-3585-4E54-92DE-5AAF139C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B75D4-0D55-42F1-9513-A72BCD16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814E-97A9-4CFA-8248-C42CA84D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4E85B-5E92-462D-84E4-47D4133E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D14FB-3151-43C6-8E50-069E4CF3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E8B6F-6CA7-4FF1-B703-5897ADEA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49CB6-AB4A-42A2-9218-B458AD26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F84C5-1F29-4647-BFA2-682619B7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716B6-B26D-44D8-8614-5729B794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8638B-819D-43B3-9BFC-4BB2D044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5F041-852E-4DD0-BF5D-1B770402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02048-D325-408A-94DD-E1882943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431E5-D8E2-4626-A559-47329C1F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5E1A-C368-4BC6-A7EE-00ACC58F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5B06A-17AD-4596-805C-339BCCF0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945D0-7634-4476-A384-73B78A16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B2830-B52D-475C-8C02-48D7C352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4AB1D-1235-44C2-BA88-C3B37383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A3B6F-957A-42D8-BD96-0CE59091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59D0D-6B4B-47D6-B189-C3C50290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06A1A-2B0C-4459-957E-C437D033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F7D99-54DC-494C-87FC-CCDBF5AA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628F0-7493-41A7-8D6E-0ECAF199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1CDC5-74FB-4140-9E08-E1D143CD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F15-9510-48E5-8931-341BB6BA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1620A-FE77-4B20-BAB2-1E00B9CB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B6B93-396E-450A-BDCF-87021632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F5876-9BE9-4E77-8B3E-B2396BB4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9EDA6-7597-412D-936B-A304A44A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15F00-1FDC-48DB-95DD-1FCE067E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D00E2-F873-46D8-A1B6-EF8772FA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29517-87AF-4555-930C-1C202CBD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81609-6A7F-46A5-BF6D-A45C9478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E658D-B08D-482B-8594-B1F3E9B4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55444-0BD3-4BA3-933C-B99CB466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395-5D30-4C44-BB82-6E0CC06D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3B8F7-ADF6-4815-92AB-9D403227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98BA9-2101-468F-838F-05DD38D6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66EBE-6139-4F3E-8C88-E9A1EB24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FE0F6-F71B-4C55-9730-AA97AB7B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2FD8B-3D39-4B11-B79F-DF5235E5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1DCBB-D145-4046-ABBA-BEF1CD74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FCD5D-9AD9-436E-8273-A3D8145E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65E0E-EC11-4580-9029-C7BFCB92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9DFC1-F8AF-42B4-A3E8-6BB719A2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8B8CC-ED79-4355-BFB3-7EED0DBE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FF0A-4324-48E5-9EFB-067022F4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1A321-5BCB-471B-AF79-E2B6D80D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C931D-0A9C-4485-B43E-614259E2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05C15-CF15-45E8-959F-6ED88227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E0A7C-5C3C-4D64-9AE6-6790DDD6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D45EB-C072-47EF-B807-54C0324D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DE51B-50A6-4CA9-91CA-47F1240B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842DB-5894-45E1-BE2B-9C2F0FE3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E6A00-615E-4E53-BEEA-D90FDCD5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34BEA-1D89-4FA5-8090-8DAC0B8F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32CFB-1EE0-4F80-84D3-AA4AFA33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04D1-DE79-4B39-96BD-9934807C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6CE69-3C38-4E80-8E6D-FCE2158F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E3605-2AE3-4397-83BF-7D329D42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56DC9-635F-450D-B55B-C5FA6B21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24C0B-FF91-4615-B77D-E883B87D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D8857-F643-4C14-A275-C23E9229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C3F62-EEA5-4767-B033-40FE2EEA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866C6-2990-4576-A58D-19DA04FF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69C5A-8B25-4F54-AE6D-24916268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CD17D-AF0F-45F8-A39B-971106BE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E1CA4-DDE4-489A-A8FF-BB99D9CE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CE8-E255-4E38-B5E7-1E33BC9F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DA920-AFDE-4BC1-AD3F-2B33FA7C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7714F-69C1-4423-809D-1F1679F6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36887-C8C9-4667-97F8-89582CB4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A0199-B25D-468B-9FA1-3143D64A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C8D77-F825-48F7-93D9-0E536824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7F4A2-87A6-4C07-9C48-278F7DE5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FF0D4-FC1E-4F58-A1D1-1C2DD4B2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B7CFC-F0B1-4DE4-A5F4-16CBD4E1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D36C9-E774-4ED5-92F4-40E76C9A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FE7D7-1735-4840-93C8-2ABD969D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0644-F344-4F03-B5EA-8D2EC49C7DF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E30A-1FF9-46F6-9DE2-5CEFD7D8134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B994-BC45-459E-9FBB-33FE333D857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9FA8-27C3-4CE3-88C3-9BEC3B4EAB8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E341-F38F-45D4-8CFD-3AB0E688E06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833C-6217-4759-B7FB-E381D989551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E88D-84CB-42A7-83E7-53788546169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13A5-D840-457C-ABF3-6B29516CD0F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F353-C2CB-437F-B7CB-1063C83113D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7949-D80D-421D-A070-AA0F05230B6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2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1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안녕하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_(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주무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시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앉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erminate the following verbs with declarative, interrogative, and imperative e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입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제임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안녕하십니까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하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?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까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제임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안녕히 계십시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히 계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안녕히 가십시오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히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가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  <a:ea typeface="굴림"/>
              </a:rPr>
              <a:t>Study honorific expressions, talking up and down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peaceful, be fine, be w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yes (In the dialogue here, it means ‘I’m fine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히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dverb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계시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olite expression of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있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stay, 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종결어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Terminative Endi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서술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Declar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의문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Interrog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명령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Imper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오십시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으십시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 (Part of ending, honorific suffi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오십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으십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3498840" y="2133720"/>
            <a:ext cx="5400720" cy="28861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2"/>
          <a:stretch/>
        </p:blipFill>
        <p:spPr>
          <a:xfrm>
            <a:off x="233280" y="285840"/>
            <a:ext cx="4343400" cy="2095560"/>
          </a:xfrm>
          <a:prstGeom prst="rect">
            <a:avLst/>
          </a:prstGeom>
          <a:ln w="0">
            <a:noFill/>
          </a:ln>
        </p:spPr>
      </p:pic>
      <p:sp>
        <p:nvSpPr>
          <p:cNvPr id="505" name="직사각형 3"/>
          <p:cNvSpPr/>
          <p:nvPr/>
        </p:nvSpPr>
        <p:spPr>
          <a:xfrm>
            <a:off x="4602240" y="3049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http://classroom.re.kr/uploadfile/content/content02/second04/data03/5_3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3"/>
          <a:stretch/>
        </p:blipFill>
        <p:spPr>
          <a:xfrm>
            <a:off x="3564000" y="5157720"/>
            <a:ext cx="4781520" cy="1533600"/>
          </a:xfrm>
          <a:prstGeom prst="rect">
            <a:avLst/>
          </a:prstGeom>
          <a:ln w="0">
            <a:noFill/>
          </a:ln>
        </p:spPr>
      </p:pic>
      <p:sp>
        <p:nvSpPr>
          <p:cNvPr id="507" name="직사각형 4"/>
          <p:cNvSpPr/>
          <p:nvPr/>
        </p:nvSpPr>
        <p:spPr>
          <a:xfrm>
            <a:off x="262080" y="5924520"/>
            <a:ext cx="315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http://dlegongbuwarac.edupia.com/xmlPrint.aspx?did=20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읽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u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입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ut on, dr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보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배우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lear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만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기다리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a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주무시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leep (h.f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오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om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공부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tud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먹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쓰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rite (bitter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마시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rin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잡수시다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먹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운동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xerci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타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ide, boar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입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주무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u</cp:lastModifiedBy>
  <dcterms:modified xsi:type="dcterms:W3CDTF">2012-09-17T02:02:25Z</dcterms:modified>
  <cp:revision>61</cp:revision>
  <dc:subject/>
  <dc:title>KOREAN LANGUAGE</dc:title>
</cp:coreProperties>
</file>